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812-95CF-4DB1-9293-829E264F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A1C-096F-4BBE-AA5D-6BAA4FF3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955-3DC7-4155-944E-6B7B37CA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41B-4036-4CE6-A917-6CAFEA16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020-DDC8-4A14-87A4-2525B523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A64-1F72-4AF8-BC62-0240B1B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B39-58F7-49C7-BDAF-91AF0E50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C09-443E-4E1B-B252-5BD95872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7A4-D8CE-4892-AAE8-AC40FF4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D30-BFED-47FE-9952-ACDCECB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B7E-B2DE-41F0-BF7C-0B589DC0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EBA-03B1-4E93-BC9C-913BA36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739C-1F3C-439F-AA9C-CD499CA77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When Training Fails – Sessi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with someone outside of your school – what did you find similar and different to your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-30-15 Framing your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F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what is F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clear expectations for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studied periodically for adju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used for data on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transfer rubric and determine individually a school s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as a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ring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 about the Essent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a look at your advance organizers and see how many of the areas you can 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with a partner and see if your explanations al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your new understanding of transfer add to the inspiration map at least one visual that might capture your understanding of transfer with your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 your KI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ing into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line data  on teacher performance related to the need is collected, analyzed, and communic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and for change is created with an intentional p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vel of quality, intensity and fidelity is collaboratively developed and communic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train a cohort of coaches and trainers specifically for the identified ne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ermine Effective Teaching based on this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ermine Effective Teaching based on this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y of 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21:18:51Z</dcterms:created>
  <dc:creator>Debra Webb</dc:creator>
  <dc:description/>
  <dc:language>en-US</dc:language>
  <cp:lastModifiedBy>Debra Webb</cp:lastModifiedBy>
  <dcterms:modified xsi:type="dcterms:W3CDTF">2012-11-19T21:41:40Z</dcterms:modified>
  <cp:revision>9</cp:revision>
  <dc:subject/>
  <dc:title>During Training</dc:title>
</cp:coreProperties>
</file>